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8EE2-879B-4424-B749-9D28813EA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E5B6-7256-4238-A402-35A07265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8AFC-2FF3-43DA-AB3E-537EC6A7F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6BF8-7D98-42C5-B383-538794582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6472-3FAF-434D-946B-F6ECA126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814A-2993-439D-BFFB-87083C31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5601-2E35-4735-8131-594133CC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810B-DBDB-41EA-BA1A-7D9F8760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8E3B-503A-4F46-95FE-9C81AD5C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BA6B-1AF2-4CFC-ABC9-6990F660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F338-0999-432E-9D61-C6B4EA42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F090-1CF2-4139-9557-D6A98297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CFF4-0B28-47FA-B730-CA8CD060A19D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数码管显示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人机交互式单片机系统来说，不仅需要响应用户输入，同时也需要将一些测控信息输出显示。这些显示信息可以提供实时的数据或图形结果，以便于掌握系统的状态并进行分析处理。目前，在单片机中最常用的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显示。其成本低廉、使用简便，可以显示数字或几个特定的字符。本章将主要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的种类与结构，以及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如何实现显示，包括静态显示和动态显示。本章还通过实例介绍了单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多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使用方法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动态驱动显示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动态显示是指每隔一段时间循环点亮每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，每次只有一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被点亮。根据人眼的视觉暂留效应，当循环点亮的速度很快的时候，可以认为各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是稳定显示的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动态显示的硬件连接比较简单。这里使用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，将所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段引脚并联在一起，连接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据总线上。而各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共阳极引脚或共阴极引脚分别由另一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线控制， 从图中可以看出，使用两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端口便可以动态显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。其中一个并口作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的控制引脚，另一个并口作为公共的数据总线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程序中采用扫描显示的方式，即在同一时刻，只使用一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显示数据。通过为共阴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或共阳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的公共引脚赋低电平（或高电平），从而选择某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显示。如此循环，使每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显示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应显示的数据，并进行适当的延时，形成视觉暂留效果。这样便可以达到动态显示的目的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3.3  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驱动器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前面介绍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动态驱动显示在程序设计上比较复杂，实际上可以将相应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扫描动态显示电路交由特定功能的芯片来完成。目前，市场上有多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显示驱动芯片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AXI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生产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AX721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显示驱动器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523880" y="3048120"/>
            <a:ext cx="2232000" cy="3028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038480" y="4260960"/>
            <a:ext cx="4572000" cy="1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多个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驱动实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前面介绍了各种驱动多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的方法，其中以外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驱动器最为方便，占用单片机资源少，而且程序控制简单。这里便以实例讲解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X721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芯片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来驱动多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4.1  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驱动器电路图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统完整的电路图，如图所示。这里的单片机选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公司的新型单片机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T89S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也可以采用其他兼容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列单片机，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T89C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438280" y="2743200"/>
            <a:ext cx="441972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4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例的程序功能是演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X721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各个寄存器操作，以及控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显示数字及字符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362320" y="2743200"/>
            <a:ext cx="456228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显示器件，包括共阳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段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和共阴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段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，然后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静态显示技术及其应用实例。本章还重点讲解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的动态显示技术，包括静态驱动、动态驱动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驱动器驱动。最后通过一个具体的实例讲解了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驱动器控制多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显示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显示是单片机系统中常用的显示接口，读者应该熟练掌握其使用方法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1  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数码管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即发光二极管，英文全称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ight Emitting Diod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单独的发光二极管便是一个最简单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通过控制其的亮灭来作为信号指示，一般用于电源指示灯、工作状态指示等。单个的发光二极管使用比较简单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是由若干个发光二极管组成的显示字段的显示器件，一般简称为数码管。当数码管中的某个发光二极管导通的时候，相应的一个字段便发光，不导通的则不发光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可以根据控制不同组合的二极管导通，来显示各种数据和字符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应用系统中使用最多的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段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其可以显示十进制数字以及一些英文字符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段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显示模块可以分为共阴极和共阳极两种，下面分别进行介绍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1.1  7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段共阳极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结构及显示段码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段共阳极</a:t>
            </a:r>
            <a:r>
              <a:rPr b="0" sz="18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数码管是由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条形发光二极管和一个小数点位构成，其引脚配置，如图所示，其内部结构，如图所示。从图中可以看出，其中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发光二极管构成字形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可以用来显示数字，另一个发光二极管构成小数点。因此，这种数码管有时也被称为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段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数码管显示器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362320" y="3276720"/>
            <a:ext cx="525780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1.2  7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段共阴极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结构及显示段码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共阴极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段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数码管和共阳极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数码管结构类似，其引脚配置，如图所示。从图中可以看出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段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数码管同样由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个发光二极管组成，其中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个发光二极管构成字形“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8”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，另一个发光二极管构成小数点。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共阴极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段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数码管的内部结构，如图所示。其中所有发光二极管的阴极为公共端，接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GND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。如果发光二极管的阳极极为高电平的时候，发光二极管导通，该字段发光；反之，如果发光二极管的阳极为低电平的时候，发光二极管截止，该字段不发光。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057400" y="3124080"/>
            <a:ext cx="605808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个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驱动实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前面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的结构及其显示方式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主要用于显示数字和一些特定的字符。这里通过一个具体的实例介绍一下，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来进行数字和字母的显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2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路图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本例主要用来使用共阳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显示数字或字符，读者可以从中掌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的基本操作方法。这里给出完整的电路原理图，如图所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514600" y="2590920"/>
            <a:ext cx="429588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2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静态显示的方式，根据按键的不同，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有不同的显示输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创建项目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程序代码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600200" y="3429000"/>
            <a:ext cx="3657600" cy="267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477120" y="2971800"/>
            <a:ext cx="1438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多个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驱动方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实际的单片机应用系统中，使用单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的情况比较少，经常需要同时使用多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来显示大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的数据或字符串。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并列使用的情况为例。这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数码管可以显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-999~999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之间的任何数字，也可以同时显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字符构成的字符串。可见使用多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可以大大扩展显示的信息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对于使用单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的场合，直接用单片机的一个并行口便可以控制显示。如果仍然采用这种方法来控制显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显然是不太可能的，因为典型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只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并口，而且有些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口还需要用作其他用途。而对于一些多引脚的型号，通常也不够为每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分配一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并口用于显示。此时便需要根据系统资源占用情况，来选用合理的显示控制方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静态驱动显示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数码管静态显示方式是指，当数码管显示某个字符的时候，相应字段的发光二极管恒定地导通或者截止，即亮灭是完全不变的。在这种情况下，多个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是同时显示的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这里以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共阴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数码管为例，如图所示。其公共端接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GN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每个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数码管的字段引脚分别接单片机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端口，这样便可以为每个数码管单独赋值操作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8765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48:40Z</dcterms:created>
  <dc:creator>cheng</dc:creator>
  <dc:description/>
  <dc:language>en-US</dc:language>
  <cp:lastModifiedBy>cheng</cp:lastModifiedBy>
  <dcterms:modified xsi:type="dcterms:W3CDTF">2008-10-13T08:08:47Z</dcterms:modified>
  <cp:revision>2</cp:revision>
  <dc:subject/>
  <dc:title>第24章  LED数码管显示</dc:title>
</cp:coreProperties>
</file>